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jpeg" ContentType="image/jpeg"/>
  <Override PartName="/ppt/media/mickey.wav" ContentType="audio/x-wav"/>
  <Override PartName="/ppt/media/image5.png" ContentType="image/png"/>
  <Override PartName="/ppt/media/CARBRAKE.WAV" ContentType="audio/x-wav"/>
  <Override PartName="/ppt/media/DRIVEBY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DRUMROLL.WAV" ContentType="audio/x-wav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B44-6E19-4D0B-A9AE-487FD208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E67-D506-430B-86B0-75630CD8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2C3A-83C8-4B4E-9362-60C7867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F347-5866-480C-8D97-8AAF445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782B-EB45-4F8B-9109-F89EF5D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B1C45-1670-4004-846C-C0CA909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8E53-366A-420F-BC37-8B1FEFF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F048A-770F-4266-ABD8-14D6931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8C84-9647-4442-BA03-7632AA0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815F-8EA4-446A-A20C-84ED6658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F529-06E8-4883-8AD6-3D62B048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0EB8-550A-4767-818E-2EC84D98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831-5671-428F-92B0-EF3C3ACC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2C46-E742-4B0A-B5AF-163D2D8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EF4E-2588-45D4-8153-48F57149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7885-95D6-4CBC-81E2-25D7963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E68D-446D-46D9-AD5B-AEEFE0DA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BA54-D3A9-44EA-8337-E7BE02B5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034E-068B-4C50-9794-A0B81AA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C6901-CB17-4800-BD48-B09F84E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5C84F-2890-4367-AEE3-29425C3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E103-857C-403C-AB07-F50F434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36AD-0536-4970-A2B4-DB65DF34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34-7A5D-49BE-B3B7-4CA57D67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2293-C6D2-4F22-A72C-8041B6F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EAA26-4D35-41BA-8162-4F71B2B0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10045-42F0-4F3E-A3C5-F2AC7E9B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94B1-3D98-4415-ABFC-665FC3D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0C496-467C-45BA-B1C4-E010E83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16D4-4352-4B52-A323-6824406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CA800-EF9D-4DAF-8D4E-32C0E34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73C66-BE1F-4983-976D-E79A0592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B2EC-E334-4BBE-BAE3-B34A751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11F2-10B8-4677-ABBA-8CD78CBC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A8FE4-CF7E-4D57-B29D-FEC275F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3D93-4595-403D-A0AF-FBB0C34F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EC29-D96D-4561-8300-ABF29CB1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8B57C-E257-4CED-800F-66615CC4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B7EB-A2A3-4DDA-AB4E-90C53B5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096CC-A094-4DBD-8681-FDF92D4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9D122-2F12-479A-8655-8907DBF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0F21B-0C16-4BA7-80D4-5DDCBBDF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A72F6-81CE-42F1-A294-387580F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BBAFC-606B-48E3-BD44-DAC05A78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9D8B2-E023-4E56-B0F4-F6B7167B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3F5F2-15DD-457C-9E99-4FC452D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290B6-F365-4C42-AC61-1E4909D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BAEC2-5790-4177-B4D4-9C565E97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C19B9-0B1A-4EBA-893F-D3707105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256BB-E6C1-4D37-B890-7191CFA5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8598-C544-4A27-A78B-F5B5965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6E444-4FBD-404B-B7D4-BE3B647E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FDA2-DB18-4E2D-9F7B-73E5E03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9D67C-E202-4C45-956D-E177F48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FFFD-CD3E-4A0E-8DCF-5243B52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0B70-4BD9-4DA2-A3F3-3A5A178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730C-A524-4A52-B0CF-BDA3E39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D2A46-AA14-4BAC-ABAF-EB82B3F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F6D2-6EAA-4D78-AB5D-97722D7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460EB-4DF0-4467-B498-10B9CB9F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C58F-7AE3-40E9-9619-C371E8A8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C7963-9DC3-4139-9F26-1F1179EA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BF985-78E2-4690-B976-F65910E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D22F4-2551-4BD8-AEB0-BE695A1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38F89-96E7-47B7-B730-4DFE2DE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D4B34-AE2E-45A6-B215-5F3C7521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0791E-21D8-4FCB-A4F0-027C0FFE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46D35-1B6B-4DA1-9149-4627657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4710A-62F6-4CEC-9439-3A80D0C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95685-CEF1-46D1-BA10-5B177A49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1CA4A-2DAC-4F51-A15D-8CDFD47A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86AC7-DB4C-49ED-B4F7-1646EAD9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2DCA6-4FC5-4E5A-BE81-0B10F71C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DEF01-A155-406E-8377-37C720F5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718D0-9622-49B5-97A6-191289F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A3E1F-4A5C-45E2-8D0D-C66ADD2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45685-6E20-44B5-8718-0A985853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4DA83-5B53-44D7-9CE2-059BBDC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14C68-E31D-4F62-8EA7-BB8775DF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07FAA-0D2C-44A8-B52D-4986B281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EA04A-B5A2-4B47-9FFE-419EF990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108B1-6D96-40B9-B693-53DCC046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5A0C3-7EF9-48CC-9A8B-8751C81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BCCAA-25F5-4D16-AC96-EE238042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6368A-70EE-41CD-BDD4-A4D7AD77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C9574-B962-45E6-8C1E-B291E53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F795C-91D7-4C21-B7CD-970B592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B1290-677D-46A0-B724-0664DEB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1047D-0D91-4591-B50A-59141DB0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FBF94-D37D-4D63-8B84-465CE0E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3318D-A80B-43A2-85E7-24C69D5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AFDF2-F200-49A6-AD70-F6806C1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D899A-EE68-44F5-AD1D-29E0B193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AB4DD-CA8F-4B24-BEFC-9DBFC59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F3BE9-24BC-4830-8FB7-C99EA98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7B105-E920-4910-B525-6E9031BE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DC6B0-FC60-4E76-9CD1-B9638A99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00BE3-35F4-45C7-B79D-47F8210F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4100E-2530-41A1-AF55-20D7EC3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FBC3A-8DF3-45BF-92B8-624998BB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6CBA9-0E3C-4A89-A7D8-E24E2A4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647D6-8EA6-4032-8409-4C4099F7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2E86B-6566-44F3-A952-3982984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64F54-8024-40F1-A3CA-C88F7C3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B54-7BA8-4677-88EF-68E184F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8BD7F-0799-4B01-ACAB-1131AFD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42B09-A0C3-4187-8DB1-2AD3B56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A2EB6-CEAF-4CB1-B6DD-49797A4E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6015D-5A9E-489B-8243-2E7DAA31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48E89-8296-4097-8991-854BF930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B7B1A-290F-4A3A-A64F-773D74FB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A0F26-6E4F-481D-81E2-BE60EC66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315FD-7930-4609-9BFE-BB080AD2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642FC-4649-4389-A931-3A6964C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87A06-9DC0-45B4-8A07-43ECD7FE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17512-E1C6-46D2-9DAF-008625B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F2CE8-4BCF-4EC1-B876-7893599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5B541-8032-4304-8A88-92FD4CE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59747-B2EB-4FDF-B376-B5FE3F0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1DEA8-E1B4-4FB8-B549-30FCDFEB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1E483-B673-4B03-A2EB-B4EB66DB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46671-37FA-40CC-9E5E-239D8B48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2E547-7444-4DD0-9EB4-E89444CA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B734A-A168-4353-BF62-C220BEC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6B837-D655-4316-A749-DA20677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F901E-DACC-4FA8-9673-F40BF953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66F10-EB28-4C31-9CBA-1626266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170B4-E1E2-4EE7-B70B-DB0C8DE7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CEFFF-AC2D-4129-935F-4B59210F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1D8F9-19DE-4042-A498-6B36C49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612B5-620F-4B09-B419-152DA15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5B4A4-1DDE-4729-B007-51DB23C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F7FF6-F985-4065-8316-47B09BA2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8CA07-E2A4-4E90-83B4-3527ED6F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F075E-AFBB-4710-AE6E-F2CDA8BD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E56DD-CF43-461E-9379-245877B5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A8DDB-FB6A-42B8-8817-22C9A3B3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4853AF-07E2-4240-AFBA-11B7CF7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2FFC2-0CA1-40A6-A028-F7B827E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4355A-534C-4FC0-911F-8047D1EC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18D15-E47E-48F5-AA05-1E54DA8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D1B52-0301-4C2C-B0AF-37B02D3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C4DAB-C615-45D1-8127-797D9B9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219C8-55D3-4816-BD97-5F8B9B2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C42A2-DE62-486B-AF41-617F5B67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26027-3CCD-4F5A-9E6F-238685D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52186-83A2-4A75-835C-E064857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5E532-B703-40FE-90ED-A92E2A7A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84760-2948-45E9-83B0-6727CAB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E26C1-21E1-466A-A378-47C3EFAB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45C4E-AF5E-4435-A51A-BE1B1A4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A437C-016A-4B61-B774-89EA8EB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AEFE1-2902-41AB-BF18-15A00A7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3C948-3A60-41B8-AF4F-D5ED4AB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952B3-791B-4E40-BC99-001B9E6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E8376-5975-46F2-923A-B603446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80029-E983-4E67-92DC-C9693066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1A8BF-65E1-4A17-B548-9E6B6F2A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2FD26-CA00-4279-98A0-E29248E3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FB5C7-5BA0-4214-8700-0A93B9B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414E2-E201-4C1B-B38B-AABF6E9C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BF078-DB5E-4B12-A37D-81596E01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C41CF-5D75-46F9-9A22-581EEDF1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3CB48-05EF-4960-BCE0-EA533D6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E7A16-4674-4A5A-A051-8B5540D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E228D-DDED-4E34-B2E2-03B6D86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A9E51-A9F2-4F5A-8F98-3FC4D74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9AFF6-C189-4BA7-9689-B11927A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F46C6-A0D4-4824-AB33-69A1E84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CCDE0-44B1-44E1-B621-14CA3356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01856-6596-416D-8EA6-CE2044A1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D9BD2-6479-45D1-B342-3F86775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39B2A-29FD-4DC6-B10A-CBB8677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10E03-A8F8-4BA9-802F-C22762E7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C0649-ADBE-4FBA-AF80-F55AA49C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2AD48-6E5D-4749-9566-98B23EC3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E6F40-4196-4EDC-99F2-B1BD661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9EDB2-4123-4F4E-AA52-1F027F2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58A6D-3D1C-4054-BBE4-72993B9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0DAD8-4456-4BF1-8FDD-5E0E629A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50ADB-BA0D-46D0-9F66-C8EBFD93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5E040-F147-435E-94BE-A09E888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F69-4EB9-40F8-86A8-955B850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E481-4450-4469-B74C-7411B23F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80AD-DACA-4132-85E6-BF914065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71C6-C0ED-4C44-AC11-8915B2C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FA2-DA03-4CC9-9651-3F3BB539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0DB-0C79-4AC5-8EB0-2EA3079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5F7E-0CBC-4692-9258-7D421C76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9FC-D1E8-4C54-ADCD-45E618D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7C7-C6D4-42EF-8B0E-5CD98B5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963A-376A-452C-86CD-337CBC8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9652-CBB8-4440-8C7B-18DD4C1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BAE-7405-4E03-A903-9DE9ECC9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7C17-9225-4CA3-A83E-6530E4D2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4C6-53F7-4167-B095-65B8D538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65D3-DC4F-462E-A603-4D8CAC74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04C-99B8-4AF6-ACEA-87F70F2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023D-30D1-403C-9D84-F28089B0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243A-810E-4A3B-9B93-CF3DF189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D6C4-D551-4F18-842A-0C0480C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319D-9D51-41C2-882F-E394429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7AE3-FAA4-4C41-AEC0-B04E686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055C-8329-4010-AA4A-7ACDF26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4F39-6C42-4EBC-A2D8-D25A846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C44C-994E-474E-B196-D67EA05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FDE1-71A2-4B2A-A520-E5EFF7CE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947C-90C7-4B77-9694-8CE1BDDC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830-2B9B-4123-88E9-325CA730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DBA6-ADB0-4C1C-8D5E-75E573F1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36E6-FD94-495F-BE5A-665AB340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BAD0-1DCF-494F-8B8C-EE22E3B8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B08F-DE60-46E0-BA91-3A03054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D2D9-C2C6-4BDF-9615-D70A50D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06A0F-3C83-4BAC-A546-3A5205D7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D773-8742-4470-A9C7-FC772E59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49CF-E248-4158-B036-3D58307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E183-1AEC-4CE7-ABD5-4590176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5672-CAC7-4E05-AE65-411A977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DBB-ECF1-4B36-BDB2-B9122A24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7032-1C0F-4DFE-9C07-E26F6A73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E2D9-DB23-418E-822D-6706D25D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61BB-2DB2-449D-B605-4D294B2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5064-7DAC-4209-9C80-0E6570F6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00E08-D225-47E1-82AD-B301D49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889B-5D94-4D12-AB5A-C4ABD107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1F8F3-E13A-43B5-8926-8612351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0F5D-0B5D-4A75-9294-90BC49E6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E199-D12F-4AD5-A24D-6C80B628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69E6-9C19-4336-806C-49599D80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D47-76DF-41F1-A6CE-308BC50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85328-2F72-47D1-AAEE-198ED7B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E9EA-18D5-4B2B-A325-69FD3EC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D408-D8D4-40EA-B839-BBE08CD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D092-BE5E-4A31-A95A-947FCC08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D9F2-8635-4C94-B8FD-C6E15148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74AD-2C53-4D72-936A-F662FF69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EA9A-5C80-4280-8845-11737B8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1EE0-B88F-4528-9023-84CC500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F11A-9143-43DC-8375-E2E78A9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6523-76E0-4206-8344-DCB3086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7F7-13C5-4AF9-B0AD-87E9840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57D3-A095-49BC-8257-3727E65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69ED-078D-4CB3-8558-D66266A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AC3B-7788-43E7-8243-2780E25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8F3A-0BD7-45A4-9BBE-1E1FF41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57221-4E0C-4681-842B-48FB617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5D36-39C1-4E5F-A0E6-F3DC812C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3901-47E5-4744-86D8-A1F43401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ACBB-A4F8-4DF2-9453-355ACBF5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8183-C84E-4AFE-B37D-9DA8F037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FB686-B3C7-4F06-95C9-E543AF3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EEB-2797-4DA6-BED3-DE27FA63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A71-0868-4B26-8EA5-3BE73A569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873-0EE3-49E4-B1D9-02ECBF301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12F-7CE3-457E-88C8-53C2E60EB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1B7-54B8-4C4A-BBEB-9057A2CB1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F09-7D7B-4460-B8F9-CF0A9BC77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258-BA42-4376-9B1C-A1B6D055C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D72A-7224-4AB9-B810-D93D67D4C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3579-95FF-414E-B1D4-3F943C849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2FB-21E0-4FBB-8C36-4C412A9D34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C0D-6CFC-4EA8-AD50-1A351BBEDC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FA2-CB00-4DE3-8B40-07DEF68A1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92C-8B63-4533-A562-A970461C4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EEB9-32F2-45FA-9955-0500A55AB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0201-085D-461B-A0C6-D3303B8C0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5E1-A4C3-49FD-A029-6A48FE4AA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F84-43A9-4D71-B89D-54BA664DAF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B464-22FC-4C3B-AD2E-28F0B4DFFA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8FA-8EA0-4EC3-B379-0582E9A4E7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D1B-94AC-40BF-84D8-FC4E8403B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E07-9704-49AB-86C8-A725471E1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icke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3"/>
          <p:cNvSpPr txBox="1"/>
          <p:nvPr/>
        </p:nvSpPr>
        <p:spPr>
          <a:xfrm>
            <a:off x="1219320" y="2438280"/>
            <a:ext cx="7315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lying Through Quotation Mark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4" name="Picture 6" descr="A:\astroorbiter.jpg"/>
          <p:cNvPicPr/>
          <p:nvPr/>
        </p:nvPicPr>
        <p:blipFill>
          <a:blip r:embed="rId1"/>
          <a:stretch/>
        </p:blipFill>
        <p:spPr>
          <a:xfrm>
            <a:off x="380880" y="2286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1335" name="AutoShape 7">
            <a:hlinkClick r:id="" action="ppaction://hlinkshowjump?jump=nextslide"/>
          </p:cNvPr>
          <p:cNvSpPr/>
          <p:nvPr/>
        </p:nvSpPr>
        <p:spPr>
          <a:xfrm>
            <a:off x="7848720" y="5943600"/>
            <a:ext cx="890640" cy="585720"/>
          </a:xfrm>
          <a:custGeom>
            <a:avLst/>
            <a:gdLst>
              <a:gd name="textAreaLeft" fmla="*/ 37800 w 890640"/>
              <a:gd name="textAreaRight" fmla="*/ 852840 w 8906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2838" h="21600">
                <a:moveTo>
                  <a:pt x="0" y="0"/>
                </a:moveTo>
                <a:lnTo>
                  <a:pt x="32838" y="0"/>
                </a:lnTo>
                <a:lnTo>
                  <a:pt x="32838" y="21600"/>
                </a:lnTo>
                <a:lnTo>
                  <a:pt x="0" y="21600"/>
                </a:lnTo>
                <a:close/>
              </a:path>
              <a:path fill="lightenLess" w="32838" h="21600">
                <a:moveTo>
                  <a:pt x="0" y="0"/>
                </a:moveTo>
                <a:lnTo>
                  <a:pt x="32838" y="0"/>
                </a:lnTo>
                <a:lnTo>
                  <a:pt x="31438" y="1400"/>
                </a:lnTo>
                <a:lnTo>
                  <a:pt x="1400" y="1400"/>
                </a:lnTo>
                <a:close/>
              </a:path>
              <a:path fill="darken" w="32838" h="21600">
                <a:moveTo>
                  <a:pt x="32838" y="0"/>
                </a:moveTo>
                <a:lnTo>
                  <a:pt x="32838" y="21600"/>
                </a:lnTo>
                <a:lnTo>
                  <a:pt x="31438" y="20200"/>
                </a:lnTo>
                <a:lnTo>
                  <a:pt x="31438" y="1400"/>
                </a:lnTo>
                <a:close/>
              </a:path>
              <a:path fill="darkenLess" w="32838" h="21600">
                <a:moveTo>
                  <a:pt x="32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38" y="20200"/>
                </a:lnTo>
                <a:close/>
              </a:path>
              <a:path fill="lighten" w="32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38" h="21600">
                <a:moveTo>
                  <a:pt x="9412" y="3794"/>
                </a:moveTo>
                <a:lnTo>
                  <a:pt x="23425" y="10800"/>
                </a:lnTo>
                <a:lnTo>
                  <a:pt x="9412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33526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eggy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2" descr="A:\JungleCruiseMH.gif"/>
          <p:cNvPicPr/>
          <p:nvPr/>
        </p:nvPicPr>
        <p:blipFill>
          <a:blip r:embed="rId1"/>
          <a:stretch/>
        </p:blipFill>
        <p:spPr>
          <a:xfrm>
            <a:off x="685800" y="60948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338" name="Text Box 3"/>
          <p:cNvSpPr/>
          <p:nvPr/>
        </p:nvSpPr>
        <p:spPr>
          <a:xfrm>
            <a:off x="5715000" y="533520"/>
            <a:ext cx="2971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 marks are used to show someone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"/>
          <p:cNvSpPr/>
          <p:nvPr/>
        </p:nvSpPr>
        <p:spPr>
          <a:xfrm>
            <a:off x="762120" y="41911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ildren said excitedly, “Let’s ride on the Jungle Cruis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AutoShape 5">
            <a:hlinkClick r:id="" action="ppaction://hlinkshowjump?jump=nextslide"/>
          </p:cNvPr>
          <p:cNvSpPr/>
          <p:nvPr/>
        </p:nvSpPr>
        <p:spPr>
          <a:xfrm>
            <a:off x="7772400" y="5867280"/>
            <a:ext cx="966960" cy="662040"/>
          </a:xfrm>
          <a:custGeom>
            <a:avLst/>
            <a:gdLst>
              <a:gd name="textAreaLeft" fmla="*/ 42840 w 966960"/>
              <a:gd name="textAreaRight" fmla="*/ 924120 w 9669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31543" y="0"/>
                </a:lnTo>
                <a:lnTo>
                  <a:pt x="31543" y="21600"/>
                </a:lnTo>
                <a:lnTo>
                  <a:pt x="0" y="21600"/>
                </a:lnTo>
                <a:close/>
              </a:path>
              <a:path fill="lightenLess" w="31543" h="21600">
                <a:moveTo>
                  <a:pt x="0" y="0"/>
                </a:moveTo>
                <a:lnTo>
                  <a:pt x="31543" y="0"/>
                </a:lnTo>
                <a:lnTo>
                  <a:pt x="30143" y="1400"/>
                </a:lnTo>
                <a:lnTo>
                  <a:pt x="1400" y="1400"/>
                </a:lnTo>
                <a:close/>
              </a:path>
              <a:path fill="darken" w="31543" h="21600">
                <a:moveTo>
                  <a:pt x="31543" y="0"/>
                </a:moveTo>
                <a:lnTo>
                  <a:pt x="31543" y="21600"/>
                </a:lnTo>
                <a:lnTo>
                  <a:pt x="30143" y="20200"/>
                </a:lnTo>
                <a:lnTo>
                  <a:pt x="30143" y="1400"/>
                </a:lnTo>
                <a:close/>
              </a:path>
              <a:path fill="darkenLess" w="31543" h="21600">
                <a:moveTo>
                  <a:pt x="31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3" y="20200"/>
                </a:lnTo>
                <a:close/>
              </a:path>
              <a:path fill="lighten" w="31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3" h="21600">
                <a:moveTo>
                  <a:pt x="8765" y="3794"/>
                </a:moveTo>
                <a:lnTo>
                  <a:pt x="22778" y="10800"/>
                </a:lnTo>
                <a:lnTo>
                  <a:pt x="876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Picture 2" descr="A:\MickeyToontownMH.gif"/>
          <p:cNvPicPr/>
          <p:nvPr/>
        </p:nvPicPr>
        <p:blipFill>
          <a:blip r:embed="rId1"/>
          <a:stretch/>
        </p:blipFill>
        <p:spPr>
          <a:xfrm>
            <a:off x="1828800" y="365760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1342" name="Text Box 3"/>
          <p:cNvSpPr/>
          <p:nvPr/>
        </p:nvSpPr>
        <p:spPr>
          <a:xfrm>
            <a:off x="1143000" y="990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Place a comma after the word that lets you know the person is saying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457200" y="2438280"/>
            <a:ext cx="815328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ickey said happil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“Come visit Disney World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AutoShape 5">
            <a:hlinkClick r:id="" action="ppaction://hlinkshowjump?jump=nextslide"/>
          </p:cNvPr>
          <p:cNvSpPr/>
          <p:nvPr/>
        </p:nvSpPr>
        <p:spPr>
          <a:xfrm>
            <a:off x="7848720" y="60199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WordArt 6"/>
          <p:cNvSpPr txBox="1"/>
          <p:nvPr/>
        </p:nvSpPr>
        <p:spPr>
          <a:xfrm>
            <a:off x="2362320" y="228600"/>
            <a:ext cx="399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tation Mark Ru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c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Picture 2" descr="A:\Parade.jpg"/>
          <p:cNvPicPr/>
          <p:nvPr/>
        </p:nvPicPr>
        <p:blipFill>
          <a:blip r:embed="rId1"/>
          <a:stretch/>
        </p:blipFill>
        <p:spPr>
          <a:xfrm>
            <a:off x="1447920" y="3683160"/>
            <a:ext cx="5589360" cy="31748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3"/>
          <p:cNvSpPr/>
          <p:nvPr/>
        </p:nvSpPr>
        <p:spPr>
          <a:xfrm>
            <a:off x="533520" y="30492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2)  Insert quotation mark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st word of the person’s exact words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unctuation mark at the end of the person’s las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4"/>
          <p:cNvSpPr/>
          <p:nvPr/>
        </p:nvSpPr>
        <p:spPr>
          <a:xfrm>
            <a:off x="914400" y="2514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rowd exclaim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 wonderful parade!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AutoShape 5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2"/>
          <p:cNvSpPr/>
          <p:nvPr/>
        </p:nvSpPr>
        <p:spPr>
          <a:xfrm>
            <a:off x="380880" y="3049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3) Capitalize the first word of the person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Picture 3" descr="A:\SpaceMountainMH.gif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124080"/>
          </a:xfrm>
          <a:prstGeom prst="rect">
            <a:avLst/>
          </a:prstGeom>
          <a:ln w="0">
            <a:noFill/>
          </a:ln>
        </p:spPr>
      </p:pic>
      <p:sp>
        <p:nvSpPr>
          <p:cNvPr id="1352" name="Text Box 4"/>
          <p:cNvSpPr/>
          <p:nvPr/>
        </p:nvSpPr>
        <p:spPr>
          <a:xfrm>
            <a:off x="838080" y="50292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itlyn screamed, 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ofy, this is a blas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>
            <a:hlinkClick r:id="" action="ppaction://hlinkshowjump?jump=nextslide"/>
          </p:cNvPr>
          <p:cNvSpPr/>
          <p:nvPr/>
        </p:nvSpPr>
        <p:spPr>
          <a:xfrm>
            <a:off x="8077320" y="5943600"/>
            <a:ext cx="738000" cy="585720"/>
          </a:xfrm>
          <a:custGeom>
            <a:avLst/>
            <a:gdLst>
              <a:gd name="textAreaLeft" fmla="*/ 37800 w 738000"/>
              <a:gd name="textAreaRight" fmla="*/ 700200 w 738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12" h="21600">
                <a:moveTo>
                  <a:pt x="0" y="0"/>
                </a:moveTo>
                <a:lnTo>
                  <a:pt x="27212" y="0"/>
                </a:lnTo>
                <a:lnTo>
                  <a:pt x="27212" y="21600"/>
                </a:lnTo>
                <a:lnTo>
                  <a:pt x="0" y="21600"/>
                </a:lnTo>
                <a:close/>
              </a:path>
              <a:path fill="lightenLess" w="27212" h="21600">
                <a:moveTo>
                  <a:pt x="0" y="0"/>
                </a:moveTo>
                <a:lnTo>
                  <a:pt x="27212" y="0"/>
                </a:lnTo>
                <a:lnTo>
                  <a:pt x="25812" y="1400"/>
                </a:lnTo>
                <a:lnTo>
                  <a:pt x="1400" y="1400"/>
                </a:lnTo>
                <a:close/>
              </a:path>
              <a:path fill="darken" w="27212" h="21600">
                <a:moveTo>
                  <a:pt x="27212" y="0"/>
                </a:moveTo>
                <a:lnTo>
                  <a:pt x="27212" y="21600"/>
                </a:lnTo>
                <a:lnTo>
                  <a:pt x="25812" y="20200"/>
                </a:lnTo>
                <a:lnTo>
                  <a:pt x="25812" y="1400"/>
                </a:lnTo>
                <a:close/>
              </a:path>
              <a:path fill="darkenLess" w="27212" h="21600">
                <a:moveTo>
                  <a:pt x="2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12" y="20200"/>
                </a:lnTo>
                <a:close/>
              </a:path>
              <a:path fill="lighten" w="2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12" h="21600">
                <a:moveTo>
                  <a:pt x="6600" y="3794"/>
                </a:moveTo>
                <a:lnTo>
                  <a:pt x="20613" y="10800"/>
                </a:lnTo>
                <a:lnTo>
                  <a:pt x="6600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DRIVEB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Picture 3" descr="A:\img_mickey.gif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533520" y="3808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1355" name="Text Box 4"/>
          <p:cNvSpPr/>
          <p:nvPr/>
        </p:nvSpPr>
        <p:spPr>
          <a:xfrm>
            <a:off x="3886200" y="76212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mistakes in Mickey’s quo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685800" y="4572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Rockwell Extra Bold"/>
              </a:rPr>
              <a:t>Mickey said, Come see me at Disney World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2" descr="A:\fireworks.jpg"/>
          <p:cNvPicPr/>
          <p:nvPr/>
        </p:nvPicPr>
        <p:blipFill>
          <a:blip r:embed="rId1"/>
          <a:stretch/>
        </p:blipFill>
        <p:spPr>
          <a:xfrm>
            <a:off x="3429000" y="2133720"/>
            <a:ext cx="5437080" cy="4435200"/>
          </a:xfrm>
          <a:prstGeom prst="rect">
            <a:avLst/>
          </a:prstGeom>
          <a:ln w="0">
            <a:noFill/>
          </a:ln>
        </p:spPr>
      </p:pic>
      <p:sp>
        <p:nvSpPr>
          <p:cNvPr id="1359" name="Text Box 4"/>
          <p:cNvSpPr/>
          <p:nvPr/>
        </p:nvSpPr>
        <p:spPr>
          <a:xfrm>
            <a:off x="533520" y="380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ckey said, </a:t>
            </a: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Come see me at Disney Worl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609480" y="281952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Yeah, great job, you did it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7:36:42Z</dcterms:created>
  <dc:creator>Pre-Installed-User</dc:creator>
  <dc:description/>
  <dc:language>en-US</dc:language>
  <cp:lastModifiedBy>Nadia Williams</cp:lastModifiedBy>
  <dcterms:modified xsi:type="dcterms:W3CDTF">2014-03-11T16:38:28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